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FUELBUBL%5B1%5D.wav" ContentType="audio/x-wav"/>
  <Override PartName="/ppt/media/image5.jpeg" ContentType="image/jpeg"/>
  <Override PartName="/ppt/media/image10.jpeg" ContentType="image/jpeg"/>
  <Override PartName="/ppt/media/glass.wav" ContentType="audio/x-wav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F6C-687B-4D09-B61A-D48E443C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2B4-EC3C-43D1-BF90-B2953E60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593-1AD2-41AF-B6CA-80C83D23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ECB-41E5-462F-B5E1-56763499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2640-6A92-4C14-9271-5BD75E96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AFBA-4470-4E65-A90A-01814BD7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9BEE-18DD-4F6F-AC87-34FB86B8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4ACE-B9F6-4001-B4F7-2F74E0FD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FF14-35A2-4B49-BA36-4BAF6F1C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6C69-1D34-4A6F-978F-899D5F46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394F-29A8-49B2-85C1-88056734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9C6-52B4-4C67-8DCD-00E2D543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C34C-6C42-48B6-B255-D17BFFF7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0B40-3381-4873-A857-BF36A203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C58A-A8F3-417A-8F04-49970C9A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12C6-8C92-42CB-9B68-2CF5FAB7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ABB9-334D-447E-B56F-C8D2C67F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71E-CD80-4C51-A9F7-802230DA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B0C-E03D-4E6F-9B3E-241D0AF1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B1A-5086-48DA-B931-B691511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B47-C3BC-4F9A-88F1-ECE1CA99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F6C-09D1-4A31-B146-686539D1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6D4-6825-4B0E-AFB4-6060BE76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4FC-F57D-4553-BC98-47D8F64B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A5F3-C8CE-48E8-A943-7C51EBE2C5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D9D7-7BFC-42D5-8ED2-96C78283C4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FUELBUBL%5B1%5D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Unit 4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er that does not have a definite shape or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re farther apart than in any other commo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expanded or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ing the volume (compressing) moves the molecules closer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SPECIAL PROPERTIES OF GASES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Nature of G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Particles can be monatomic (Ne), diatomic 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, or polyatomic (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gases have these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if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t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pressure is dependent on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inetic Molecular The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explain the behaviors and characteristics of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etic = motion, Molecular =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that all gas particles are in constant and random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basic assumptions of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 is composed of small particles, but mostly empty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as particles are in constant random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molecular collisions, no energy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ses are Squeezab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squeeze or compress a gas, its volume can be reduced consider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ses’ low density allows for lost of open space to be conden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C:\My Documents\Jason's Misc Stuff\images\chemistry\compress.gif"/>
          <p:cNvPicPr/>
          <p:nvPr/>
        </p:nvPicPr>
        <p:blipFill>
          <a:blip r:embed="rId1"/>
          <a:stretch/>
        </p:blipFill>
        <p:spPr>
          <a:xfrm>
            <a:off x="5105520" y="1731960"/>
            <a:ext cx="32511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C:\My Documents\Lessons\unit plans\gas laws\phases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28600"/>
            <a:ext cx="8001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Popcorn Torture Meth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 opened up a bag of popcorn in the front of the classroom, the smell would reach the back very quic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because the high energy of the smell/gas allows it to travel or diffuse quic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, the empty space of a gas allows for this movement of molecules past one another until they fill the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gases diffuse at the same rate, this depend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the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n the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 Press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Particles exert pressure by colliding with objects in their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 of 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isions makes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pressure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ex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C:\My Documents\Units\pics\gas pressure.gif"/>
          <p:cNvPicPr/>
          <p:nvPr/>
        </p:nvPicPr>
        <p:blipFill>
          <a:blip r:embed="rId1"/>
          <a:srcRect l="11266" t="11556" r="11266" b="28003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s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ure is defined as a force per uni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= F/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t’s Gettin’ Hot in Her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er the temperature of a gas, the higher the pressure the gas ex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the temperature, the lower th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 of relationship is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co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al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po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oyant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medes’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cal’s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Little Logic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emperature is defined as the average kinetic energy of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igher the temperature, the mor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re energy, the more impacts of gas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re impacts/collisions of gas molecules, the more pressure is exe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 Variab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to describe a gas sample, you must be aware of 4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unt of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Amount of a G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 variably as (n), meaning the number of mole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le of gas is 6.0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vert mass to moles, you just divide by the molar mass of the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olume of G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ed variably as (V), and is measured in liters 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might be problems that call for cubic meters…know this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0 L = 1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mperature of G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 of a gas is represented variably as (T) and is measured in Kelvin (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vert from Celsius to Kelvin, simply add 273 to your Celsius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sure of a G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sure of a gas is the force exerted on the wall of the container the gas is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represented variably as (P) and is measured in three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s (at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imeters of Mercury (mmH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opascals (KP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Temperature and 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= 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or 273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ure = 1 atm, 760 mmHg, or 101.3 K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 La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iscuss a few gas laws…you need to know them, and be able to calculate wit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le’s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es’s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ssac’s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029200" y="2793960"/>
            <a:ext cx="3886200" cy="10288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0066"/>
            </a:solidFill>
            <a:miter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3"/>
          <p:cNvGrpSpPr/>
          <p:nvPr/>
        </p:nvGrpSpPr>
        <p:grpSpPr>
          <a:xfrm>
            <a:off x="4991040" y="4114800"/>
            <a:ext cx="4191120" cy="2209680"/>
            <a:chOff x="4991040" y="4114800"/>
            <a:chExt cx="4191120" cy="2209680"/>
          </a:xfrm>
        </p:grpSpPr>
        <p:sp>
          <p:nvSpPr>
            <p:cNvPr id="161" name="Rectangle 7"/>
            <p:cNvSpPr/>
            <p:nvPr/>
          </p:nvSpPr>
          <p:spPr>
            <a:xfrm>
              <a:off x="4991040" y="4114800"/>
              <a:ext cx="4191120" cy="220968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0066"/>
              </a:solidFill>
              <a:miter/>
            </a:ln>
            <a:effectLst>
              <a:outerShdw dist="53966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5143680" y="429264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    V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143680" y="518148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     T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5600880" y="5257800"/>
              <a:ext cx="106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7353360" y="5257800"/>
              <a:ext cx="106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6515280" y="4724280"/>
              <a:ext cx="990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6"/>
          <p:cNvGrpSpPr/>
          <p:nvPr/>
        </p:nvGrpSpPr>
        <p:grpSpPr>
          <a:xfrm>
            <a:off x="392040" y="4727520"/>
            <a:ext cx="4191120" cy="2209680"/>
            <a:chOff x="392040" y="4727520"/>
            <a:chExt cx="4191120" cy="2209680"/>
          </a:xfrm>
        </p:grpSpPr>
        <p:sp>
          <p:nvSpPr>
            <p:cNvPr id="168" name="Rectangle 7"/>
            <p:cNvSpPr/>
            <p:nvPr/>
          </p:nvSpPr>
          <p:spPr>
            <a:xfrm>
              <a:off x="392040" y="4727520"/>
              <a:ext cx="4191120" cy="220968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0066"/>
              </a:solidFill>
              <a:miter/>
            </a:ln>
            <a:effectLst>
              <a:outerShdw dist="53966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544680" y="490536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     P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544680" y="579420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     T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1001880" y="5870520"/>
              <a:ext cx="106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2754360" y="5870520"/>
              <a:ext cx="106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1916280" y="5337000"/>
              <a:ext cx="990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4" name="Straight Arrow Connector 19"/>
          <p:cNvCxnSpPr/>
          <p:nvPr/>
        </p:nvCxnSpPr>
        <p:spPr>
          <a:xfrm>
            <a:off x="3287880" y="3276360"/>
            <a:ext cx="15897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5" name="Straight Arrow Connector 20"/>
          <p:cNvCxnSpPr/>
          <p:nvPr/>
        </p:nvCxnSpPr>
        <p:spPr>
          <a:xfrm>
            <a:off x="3553920" y="3885840"/>
            <a:ext cx="1856520" cy="6102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6" name="Down Arrow 22"/>
          <p:cNvSpPr/>
          <p:nvPr/>
        </p:nvSpPr>
        <p:spPr>
          <a:xfrm>
            <a:off x="3821040" y="4495680"/>
            <a:ext cx="609840" cy="723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UELBUB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s has a volume of 3.0L at 2atm. What is its volume at 4 at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1.5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s has a volume of 3.0L at 12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, what is its volume at 22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? Be sure to convert your temperatures to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3.8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s has a pressure of 3.0 atm at 12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hat is the pressure at 22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? Be sure to convert your temperatures to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3.8 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energ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bility to do work or make a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focus on the ability to make a change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o work comes after the 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associated with motion i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inet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nce that an object might exert energy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tential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ldab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ramid F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rmal Ener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tal potential and kinetic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on the amount of energy in a substance as well as how much of a substance i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thermalenergy"/>
          <p:cNvPicPr/>
          <p:nvPr/>
        </p:nvPicPr>
        <p:blipFill>
          <a:blip r:embed="rId1"/>
          <a:stretch/>
        </p:blipFill>
        <p:spPr>
          <a:xfrm>
            <a:off x="4648320" y="1663560"/>
            <a:ext cx="403848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mperatur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kinetic energy of a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ifference between temperature and thermal ener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ocean-temperature"/>
          <p:cNvPicPr/>
          <p:nvPr/>
        </p:nvPicPr>
        <p:blipFill>
          <a:blip r:embed="rId1"/>
          <a:stretch/>
        </p:blipFill>
        <p:spPr>
          <a:xfrm>
            <a:off x="809640" y="1600200"/>
            <a:ext cx="3332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vement of thermal energy from an object with more kinetic energy to an object with less kinet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substance gains heat, it gets wa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substance is cooled, it looses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ppens to the particles when they are cool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He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mount of energy required to raise the temperature of 1g of a substance by 1 degree Cels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cover"/>
          <p:cNvPicPr/>
          <p:nvPr/>
        </p:nvPicPr>
        <p:blipFill>
          <a:blip r:embed="rId1"/>
          <a:stretch/>
        </p:blipFill>
        <p:spPr>
          <a:xfrm>
            <a:off x="4726080" y="1600200"/>
            <a:ext cx="3881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face Ten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even forces acting on the surface of a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the liquid to act as though there is a thin film across the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unseen force allows bugs to float on the surface of a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 it or not, you can actually float a needle on water due to surface 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face Tension La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: Can you place more drops of water on the surface of a penny than what will simply fit on the face of the penn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is: If…Then…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drop at a time place water onto the surface of a pen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surface tension breaks, record the number of drops in the data section of your science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3 times fo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l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n object absorbs thermal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rease in thermal energy causes the substance to change from solid to 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phous solids do not change like other sol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simply get softer and mold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igure 10 on page 1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melting"/>
          <p:cNvPicPr/>
          <p:nvPr/>
        </p:nvPicPr>
        <p:blipFill>
          <a:blip r:embed="rId1"/>
          <a:stretch/>
        </p:blipFill>
        <p:spPr>
          <a:xfrm>
            <a:off x="809640" y="1646280"/>
            <a:ext cx="33336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eez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ubstance looses thermal ener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bstance changes from liquid to 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mperature at which a substance freezes is known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eezing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itedaki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poriz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liquid gains thermal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from a liquid to a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Water boiling into vap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ypes of vapor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iling- air bubbles form within the liquid and rise to the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poration- water at the surface vaporizes, occurs at temperatures below the boiling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porization 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lace one drop of rubbing alcohol on the back of your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science journal, record your observations for the next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matter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that has mass and takes up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some exampl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dens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in thermal energy rearranges the pattern of a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the gas to turn into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condensation"/>
          <p:cNvPicPr/>
          <p:nvPr/>
        </p:nvPicPr>
        <p:blipFill>
          <a:blip r:embed="rId1"/>
          <a:stretch/>
        </p:blipFill>
        <p:spPr>
          <a:xfrm>
            <a:off x="4721400" y="1600200"/>
            <a:ext cx="3892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blim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from solid form to a gas state without ever becoming a 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room temperature carbon dioxide is a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y Ice is the solid form of carbon di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room temperature, dry ice instantly turns into a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800px-DryIceSublimation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s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to the force exerted on an object divided by the area over which the force is exe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SI Un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e is measured in Newtons 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is measured in square meters (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 pressure is N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a unit called the Pascal (P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mospheric Press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around you presses on your with a great force, you are just used to the pressure so you don’t feel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ic Pressure on earth is 101.3Pa at sea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equal to 101,000 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pressure enables you to drink from a st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king on the straw eliminates the air in the str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ir pressure then pushes the liquid up the straw where there is no longer air pressure pushing dow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sing a Str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7" name="Picture 5" descr="AirPressurePushesDrinkIntoMouth"/>
          <p:cNvPicPr/>
          <p:nvPr/>
        </p:nvPicPr>
        <p:blipFill>
          <a:blip r:embed="rId1"/>
          <a:stretch/>
        </p:blipFill>
        <p:spPr>
          <a:xfrm>
            <a:off x="2604960" y="1600200"/>
            <a:ext cx="3932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n’t you feel the pressur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mosphere pushes with equal force on the outside of your body as the liquid in your body pushes out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ltitude increases, air pressure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rise in an airplane or go up a mountain your ears pop.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oyant For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pward force that presses against an object being pushed downward by air pressure and w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buoyant force is equal to the combined forces, the object will flo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medes’ Principle- the buoyant force of an object is equal to the weight of the fluid displaced by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sity of an object is crucial as to whether it will flo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 is mass divided by th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bject that is less dense than the fluid will flo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bject that is more dense than the fluid will 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bject that is equally as dense as the fluid will neither sink nor float, but remain in the same position in th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 how do things floa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density determines the buoyancy of an object, what two factors must be considered to make an object flo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need to modify these factors to make an object flo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Effects of Volume and Tempera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volume decreases, pressure in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emperature increases, pressure increases al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noulli’s Principle Demo- observe and record in your science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happen when I place the ping-pong ball on the air cur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happen if I tilt the air cur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happen if I decrease the air press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es of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commo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, Liquid,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rar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e-Einstein Conden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te of matter that occurs when temperature approaches absolute z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ar motion s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ma- found in stars, lightning, and neon l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 in the universe, but uncommon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hapter Experiment: Build a Bo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into your science t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How does the volume of water displaced by a ship relate to the mass of cargo a ship can carry? Can you create a ship that can float on water and carry carg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If…then…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: Write your own procedures for this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ild-A-Boat Conclu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ip can only carry a certain amount of cargo saf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carry less high-density cargo than high-density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with a definite shape an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les are moving in vibration patterns that are not seen by the naked e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rphous Sol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no definite crystal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rubber, plastic, 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line Sol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arranged in repeated 3-D structures called crys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Sodium Chloride (cube), diamond (pyramid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examples: Sugars, sand, s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n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rphous solids are like lemons in a b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line solids are like eggs in a car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 Liqui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definite volume, but no definite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the shape of any container it is poured i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move freely and allow shap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cos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quid’s resistance to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viscosity means that the liquid is very thick and does not run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mo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viscosity means that the liquid pours eas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18:32:03Z</dcterms:created>
  <dc:creator>Adam's Homepage</dc:creator>
  <dc:description/>
  <dc:language>en-US</dc:language>
  <cp:lastModifiedBy>Adam Goosby</cp:lastModifiedBy>
  <dcterms:modified xsi:type="dcterms:W3CDTF">2013-06-29T17:39:58Z</dcterms:modified>
  <cp:revision>42</cp:revision>
  <dc:subject/>
  <dc:title>Chapter 4</dc:title>
</cp:coreProperties>
</file>